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960-EA6F-44F7-94CC-77BAAF06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8D5-EAEF-4653-86F8-63CB57D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3F0-A795-4C2C-8F40-01764F36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91D-F62C-42F6-8424-BEF4E8DF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FAF-C0C5-4777-A5B7-6CC88121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E94-864A-4201-97BF-B0F3F3E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A50-40CE-4F3C-BBA9-2774D82B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6B9-DDE2-40FD-87F4-FF307E76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C02-83B0-44D1-BBE3-2A3550F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FF5-113B-45F3-AE58-CC7E673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A93-F520-4A78-B77D-B28202E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7AC-FF75-419F-92D1-871B373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18A3-CE1B-470E-B05E-2331778C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341360"/>
            <a:ext cx="604836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 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e they doing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1501920"/>
            <a:ext cx="5545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068480"/>
            <a:ext cx="684036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71920" y="907920"/>
            <a:ext cx="4046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19440"/>
            <a:ext cx="8172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888840"/>
            <a:ext cx="57610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220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1581120"/>
            <a:ext cx="5616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8208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397160"/>
            <a:ext cx="748836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725400"/>
            <a:ext cx="6408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390600"/>
            <a:ext cx="7416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184400"/>
            <a:ext cx="64087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409680"/>
            <a:ext cx="734544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804960"/>
            <a:ext cx="59054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619200"/>
            <a:ext cx="63356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1517760"/>
            <a:ext cx="47516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52560" y="620640"/>
            <a:ext cx="4267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01:46Z</dcterms:created>
  <dc:creator>I.E.S. FEDERICO GARCIA LORCA</dc:creator>
  <dc:description/>
  <dc:language>en-US</dc:language>
  <cp:lastModifiedBy>I.E.S. FEDERICO GARCIA LORCA</cp:lastModifiedBy>
  <dcterms:modified xsi:type="dcterms:W3CDTF">2009-03-11T09:22:42Z</dcterms:modified>
  <cp:revision>3</cp:revision>
  <dc:subject/>
  <dc:title>Diapositiva 1</dc:title>
</cp:coreProperties>
</file>